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78E-13FD-4652-8CA3-E5CADA30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420-127A-40B6-A65D-7F1588EB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6C4-A7FB-4B38-953A-BE108DC5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E75-9E63-429D-9104-38142E08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C76-7AE6-42D1-A329-BBC87223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689-858A-4F8B-906B-228A7AEA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6EC-7233-4C7D-A3FD-D3A11550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D78-CA72-4C47-B4AC-8E559D02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40F-069C-49B1-BE22-317AF280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8D0-5F13-4076-92F4-F0EB6EE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B51-D6F5-4231-BE2A-AEE1B529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E4F-AA54-40C6-9AFD-B78E99A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00E8-AB3A-47E7-B9F2-CA1172AC8E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623700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7f7f7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611280" y="566100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33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3-03T12:01:25Z</dcterms:modified>
  <cp:revision>759</cp:revision>
  <dc:subject/>
  <dc:title>Diapositiva 1</dc:title>
</cp:coreProperties>
</file>